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76D3-EC11-4B83-8B90-7A815BA1B6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2BF-0A6A-49BF-96CC-6548D904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910-EA73-4CB0-88C8-4CD0CF86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3F8-E1AE-43BE-A466-D51EF6A9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5CA-FB3E-45A2-97FD-FE08C47F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2AD-254B-4BEB-BDE0-687E3949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271-A8DA-441D-AD2A-12AB464F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BDA-F03A-4BD5-84AB-DE7D00C4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B85-33F1-4EA4-87EB-0ED3598F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0FD-505C-4FCC-B31A-20F434B2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636-909D-4B75-885C-BCCA15CB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EDA-4A0A-42F6-8F63-F005A36D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AB1-73B2-4AD6-A515-8D90FE7F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FF18-5EFC-4495-9DDF-2013785DAF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3333cc"/>
                </a:solidFill>
                <a:uFillTx/>
                <a:latin typeface="Comic Sans MS"/>
              </a:rPr>
              <a:t>Lesson Objec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79280" y="2421000"/>
            <a:ext cx="8642520" cy="2801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ltiply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de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0" y="3200400"/>
            <a:ext cx="190512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x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905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91120" y="1752480"/>
            <a:ext cx="23619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6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2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7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3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5880" y="1752480"/>
            <a:ext cx="914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79280" y="6237360"/>
            <a:ext cx="3529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low me card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5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020000" y="3213000"/>
            <a:ext cx="190476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÷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3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</a:t>
            </a: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owers of the sam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5880" y="1752480"/>
            <a:ext cx="91440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77080" y="1700280"/>
            <a:ext cx="2087640" cy="5359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try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2 x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7020000" y="623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804000" y="90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ra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1:47:59Z</dcterms:created>
  <dc:creator>BWN</dc:creator>
  <dc:description/>
  <dc:language>en-US</dc:language>
  <cp:lastModifiedBy>RomaK</cp:lastModifiedBy>
  <dcterms:modified xsi:type="dcterms:W3CDTF">2015-09-04T07:44:28Z</dcterms:modified>
  <cp:revision>16</cp:revision>
  <dc:subject/>
  <dc:title>Multiplying powers of the same number</dc:title>
</cp:coreProperties>
</file>